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3784-30B5-4375-B7C3-114CAA8D0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308E-9456-4E91-A6F0-817407F43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0A9C-A06B-45C5-A53F-15B412AA1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9DD4-8A3E-4602-A0C9-BBE5D0E15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DCE5-EAB1-4C02-B671-BC52D5978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7949-D99E-41DE-8E74-93B940F9E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D103-387D-4265-BFB1-F60A4DC43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0FBC-CB0A-40CF-BD18-984C859F7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CAA9-E6A5-4526-B812-435DC3DF3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ECEE-DBBC-42FF-B5EC-D02E738D0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7249-A999-4441-A22F-1D6BC51E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7F1D-463E-4684-9187-3840EA765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C6913D-D8BD-41C8-870F-E8E48CE8083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F2D3E3-58C4-4278-B0B4-6DBAC2F7BC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msbalakrishnan.wikispaces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gital Learning in the classro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ithili Balakrishn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ugust 8,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nk to my wikisp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msbalakrishnan.wikispaces.com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8T17:14:31Z</dcterms:created>
  <dc:creator>College of Education</dc:creator>
  <dc:description/>
  <dc:language>en-US</dc:language>
  <cp:lastModifiedBy>College of Education</cp:lastModifiedBy>
  <dcterms:modified xsi:type="dcterms:W3CDTF">2009-08-08T19:03:34Z</dcterms:modified>
  <cp:revision>5</cp:revision>
  <dc:subject/>
  <dc:title>Digital Learning</dc:title>
</cp:coreProperties>
</file>